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509-1034-4B69-B903-EA5FE11E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8CCB-D0FA-4172-8782-9BAA5BC253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3DB-8906-4FB9-B171-6CD5EFF0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076-F113-4CA7-BD01-A7B7AD1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72F-B3EE-4F22-8085-C7B6A403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3F-3F48-471A-B6DD-400C9873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5390-8DFE-4EE4-AAA7-0546CA6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2B40-9A73-4690-A20C-0EFBCDB6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27F-1DAD-4F18-8992-F3C8F486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5DD-F6F5-4FC3-9C88-5E76138C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8A2B-B4BA-4758-8948-E6C73E7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6AC-2ABF-4BFD-AECC-F7D3D217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936-9A3D-4539-BBBE-27AD35D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5E1-7228-454B-8966-FD68AECD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6071-8767-4701-ABE6-DECF031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C0F5-01AC-46A3-81DE-AEC6F91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3B3-F6B4-4B53-AEDA-68A05511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D3E7-CCFF-4FB1-8208-8C68917E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6B9-2EF6-425C-9680-48C2F655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9C0-35A3-4E10-96A8-5BF5E8E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D9B-B754-47B1-AB68-767AC68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16E-CCC8-47FD-A8EA-1BE93C5C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21D-A322-4036-BC17-3B2B503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785-1E83-4295-B98E-E7D1D09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911-C055-45E3-BC77-F8F4C3B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625-BB3A-478D-8620-DA03905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726-02D4-4A65-A571-B0BEFDBA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395-8336-4973-AAF4-219EF3793CD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新細明體"/>
                <a:ea typeface="新細明體"/>
              </a:rPr>
              <a:t>      </a:t>
            </a:r>
            <a:r>
              <a:rPr b="1" lang="en-US" sz="6000" spc="-1" strike="noStrike">
                <a:solidFill>
                  <a:srgbClr val="ff66cc"/>
                </a:solidFill>
                <a:latin typeface="新細明體"/>
                <a:ea typeface="新細明體"/>
              </a:rPr>
              <a:t>5C</a:t>
            </a:r>
            <a:r>
              <a:rPr b="1" lang="zh-TW" sz="6000" spc="-1" strike="noStrike">
                <a:solidFill>
                  <a:srgbClr val="ff66cc"/>
                </a:solidFill>
                <a:latin typeface="宋体"/>
                <a:ea typeface="宋体"/>
              </a:rPr>
              <a:t>教學理念</a:t>
            </a:r>
            <a:br>
              <a:rPr sz="6000"/>
            </a:br>
            <a:r>
              <a:rPr b="1" lang="zh-TW" sz="6000" spc="-1" strike="noStrike">
                <a:solidFill>
                  <a:srgbClr val="ff66cc"/>
                </a:solidFill>
                <a:latin typeface="宋体"/>
                <a:ea typeface="宋体"/>
              </a:rPr>
              <a:t>   與</a:t>
            </a: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宋体"/>
              </a:rPr>
              <a:t>公校</a:t>
            </a:r>
            <a:r>
              <a:rPr b="1" lang="zh-TW" sz="6000" spc="-1" strike="noStrike">
                <a:solidFill>
                  <a:srgbClr val="ff66cc"/>
                </a:solidFill>
                <a:latin typeface="Times New Roman"/>
                <a:ea typeface="標楷體"/>
              </a:rPr>
              <a:t>華文教學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0880" y="2742840"/>
            <a:ext cx="723276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Lisa Healy</a:t>
            </a:r>
            <a:r>
              <a:rPr b="1" lang="en-US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</a:t>
            </a:r>
            <a:r>
              <a:rPr b="1" lang="zh-TW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黄麗娟</a:t>
            </a:r>
            <a:r>
              <a:rPr b="0" lang="zh-TW" sz="28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hinese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Language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eacher                      </a:t>
            </a:r>
            <a:r>
              <a:rPr b="0" lang="en-US" sz="3200" spc="-1" strike="noStrike">
                <a:solidFill>
                  <a:srgbClr val="12d61b"/>
                </a:solidFill>
                <a:latin typeface="Comic Sans MS"/>
                <a:ea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2d61b"/>
                </a:solidFill>
                <a:latin typeface="Comic Sans MS"/>
                <a:ea typeface="宋体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5" descr="C:\Documents and Settings\Lisa\Desktop\5c\teacher_clipart_17.gif"/>
          <p:cNvPicPr/>
          <p:nvPr/>
        </p:nvPicPr>
        <p:blipFill>
          <a:blip r:embed="rId1"/>
          <a:stretch/>
        </p:blipFill>
        <p:spPr>
          <a:xfrm>
            <a:off x="2286000" y="26668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Lisa\Desktop\5c\super_teach1.gif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0A4939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33520" y="4572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bd391"/>
                </a:solidFill>
                <a:latin typeface="Verdana"/>
                <a:ea typeface="宋体"/>
              </a:rPr>
              <a:t>請指教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3200400"/>
            <a:ext cx="273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eff836"/>
                </a:solidFill>
                <a:latin typeface="Verdana"/>
                <a:ea typeface="宋体"/>
              </a:rPr>
              <a:t>再見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559560" y="1447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Verdana"/>
                <a:ea typeface="宋体"/>
              </a:rPr>
              <a:t>謝謝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3399"/>
                </a:solidFill>
                <a:latin typeface="宋体"/>
                <a:ea typeface="宋体"/>
              </a:rPr>
              <a:t>什麼是</a:t>
            </a:r>
            <a:r>
              <a:rPr b="0" lang="zh-TW" sz="5400" spc="-1" strike="noStrike">
                <a:solidFill>
                  <a:srgbClr val="ff3399"/>
                </a:solidFill>
                <a:latin typeface="新細明體"/>
                <a:ea typeface="新細明體"/>
              </a:rPr>
              <a:t>5</a:t>
            </a:r>
            <a:r>
              <a:rPr b="0" lang="en-US" sz="5400" spc="-1" strike="noStrike">
                <a:solidFill>
                  <a:srgbClr val="ff3399"/>
                </a:solidFill>
                <a:latin typeface="新細明體"/>
                <a:ea typeface="新細明體"/>
              </a:rPr>
              <a:t>C</a:t>
            </a:r>
            <a:r>
              <a:rPr b="0" lang="en-US" sz="5400" spc="-1" strike="noStrike">
                <a:solidFill>
                  <a:srgbClr val="ff3399"/>
                </a:solidFill>
                <a:latin typeface="宋体"/>
                <a:ea typeface="宋体"/>
              </a:rPr>
              <a:t>？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9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五大外語教學目標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：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美國外語教學學會於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1999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年所公佈的</a:t>
            </a:r>
            <a:r>
              <a:rPr b="0" lang="ja-JP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小學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五大外語教學目標﹐目前已成為美國外語教學的指導準則﹐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文及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Pre-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的中文教學也不例外。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他們是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munication  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運用語言進行交際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ultures           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體認多元文化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nnections   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連貫其他學科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parisons   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通過比較了解語言文化的特性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munities 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運用於國內國外的多元社區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</a:t>
            </a:r>
            <a:r>
              <a:rPr b="0" lang="zh-CN" sz="2800" spc="-1" strike="noStrike">
                <a:solidFill>
                  <a:srgbClr val="9966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其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溝通和文化兩大目標溝通成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為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文教學和考試的核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心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。老師在備課時常要將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5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C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的觀念融入在你的教案中，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使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學生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更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有效地學習華語文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，從而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實現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5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C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教學理想。</a:t>
            </a:r>
            <a:r>
              <a:rPr b="0" lang="zh-TW" sz="2400" spc="-1" strike="noStrike">
                <a:solidFill>
                  <a:srgbClr val="39393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5200" indent="0">
              <a:lnSpc>
                <a:spcPct val="100000"/>
              </a:lnSpc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1.</a:t>
            </a: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	</a:t>
            </a: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Communication </a:t>
            </a: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    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溝通</a:t>
            </a:r>
            <a:r>
              <a:rPr b="1" lang="zh-CN" sz="4000" spc="-1" strike="noStrike">
                <a:solidFill>
                  <a:srgbClr val="ff505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5050"/>
                </a:solidFill>
                <a:latin typeface="宋体"/>
                <a:ea typeface="宋体"/>
              </a:rPr>
              <a:t>(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運用中文溝通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1).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  <a:ea typeface="Arial"/>
              </a:rPr>
              <a:t>Interpersonal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  <a:ea typeface="宋体"/>
              </a:rPr>
              <a:t>communication 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語言溝通</a:t>
            </a:r>
            <a:r>
              <a:rPr b="0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：  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學生以交談方式詢問或提供訊息、交換意見及表達情感。</a:t>
            </a:r>
            <a:r>
              <a:rPr b="1" lang="zh-TW" sz="30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聽說讀寫能力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) 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雙向溝通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2).</a:t>
            </a:r>
            <a:r>
              <a:rPr b="1" lang="en-US" sz="3000" spc="-1" strike="noStrike">
                <a:solidFill>
                  <a:srgbClr val="3333cc"/>
                </a:solidFill>
                <a:latin typeface="宋体"/>
                <a:ea typeface="宋体"/>
              </a:rPr>
              <a:t>Interpretive communication 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理念詮釋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：  學生表達對不同題材書面及口頭語的瞭解</a:t>
            </a:r>
            <a:r>
              <a:rPr b="1" lang="zh-TW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r>
              <a:rPr b="1" lang="zh-TW" sz="28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聽讀能力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) 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單向語言活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3).</a:t>
            </a:r>
            <a:r>
              <a:rPr b="1" lang="en-US" sz="3000" spc="-1" strike="noStrike">
                <a:solidFill>
                  <a:srgbClr val="3333cc"/>
                </a:solidFill>
                <a:latin typeface="宋体"/>
                <a:ea typeface="宋体"/>
              </a:rPr>
              <a:t>Presentational communication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表達演示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: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學生透過表達方式，將不同理念及內容表達給聽眾或讀者</a:t>
            </a:r>
            <a:r>
              <a:rPr b="0" lang="zh-TW" sz="32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Times New Roman"/>
              </a:rPr>
              <a:t>說寫能力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Times New Roman"/>
              </a:rPr>
              <a:t>) 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單向語言活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新細明體"/>
                <a:ea typeface="新細明體"/>
              </a:rPr>
              <a:t>Cultures  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宋体"/>
              </a:rPr>
              <a:t>文化（體認中華多元文化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-180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Practices of cultures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文化習俗：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學生能表達對華人社會習俗的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解與認識，並能應對得體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-180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Products of cultures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文化產物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學生能表達對中華文化、藝術、歷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史、文學的知識和理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3.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nection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     </a:t>
            </a:r>
            <a:r>
              <a:rPr b="0" lang="ja-JP" sz="4400" spc="-1" strike="noStrike">
                <a:solidFill>
                  <a:srgbClr val="ffcc66"/>
                </a:solidFill>
                <a:latin typeface="MingLiU"/>
                <a:ea typeface="MingLiU"/>
              </a:rPr>
              <a:t>貫連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</a:t>
            </a:r>
            <a:r>
              <a:rPr b="0" lang="ja-JP" sz="4400" spc="-1" strike="noStrike">
                <a:solidFill>
                  <a:srgbClr val="ffcc66"/>
                </a:solidFill>
                <a:latin typeface="MingLiU"/>
                <a:ea typeface="MingLiU"/>
              </a:rPr>
              <a:t>貫連其他學科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)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Making connections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觸類旁通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由於華文的學習加強或擴展其他學科的知識領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-6984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cquiring new information </a:t>
            </a: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博聞廣見：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	</a:t>
            </a: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學生能得到唯有學華文才能獲得的特殊觀點與體認。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cc0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新細明體"/>
                <a:ea typeface="新細明體"/>
              </a:rPr>
              <a:t>Comparisons  </a:t>
            </a:r>
            <a:r>
              <a:rPr b="1" lang="zh-TW" sz="4400" spc="-1" strike="noStrike">
                <a:solidFill>
                  <a:srgbClr val="ffcc00"/>
                </a:solidFill>
                <a:latin typeface="宋体"/>
                <a:ea typeface="宋体"/>
              </a:rPr>
              <a:t>比較</a:t>
            </a:r>
            <a:br>
              <a:rPr sz="4400"/>
            </a:br>
            <a:r>
              <a:rPr b="1" lang="zh-TW" sz="4400" spc="-1" strike="noStrike">
                <a:solidFill>
                  <a:srgbClr val="ffcc00"/>
                </a:solidFill>
                <a:latin typeface="宋体"/>
                <a:ea typeface="宋体"/>
              </a:rPr>
              <a:t>（比較語言文化特性）</a:t>
            </a:r>
            <a:r>
              <a:rPr b="0" lang="zh-TW" sz="4400" spc="-1" strike="noStrike">
                <a:solidFill>
                  <a:srgbClr val="ffcc00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Language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comparisons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比較語言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學生比較華文及其母語而促進對語文本質的了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宋体"/>
                <a:ea typeface="宋体"/>
              </a:rPr>
              <a:t>2)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Culture comparison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比較文化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學生比較中華文化與其本國文而達成對文化本質的了解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新細明體"/>
                <a:ea typeface="新細明體"/>
              </a:rPr>
              <a:t>5.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  </a:t>
            </a:r>
            <a:r>
              <a:rPr b="1" lang="en-US" sz="4400" spc="-1" strike="noStrike">
                <a:solidFill>
                  <a:srgbClr val="6600cc"/>
                </a:solidFill>
                <a:latin typeface="新細明體"/>
                <a:ea typeface="新細明體"/>
              </a:rPr>
              <a:t>Communities  </a:t>
            </a:r>
            <a:r>
              <a:rPr b="1" lang="zh-TW" sz="4400" spc="-1" strike="noStrike">
                <a:solidFill>
                  <a:srgbClr val="6600cc"/>
                </a:solidFill>
                <a:latin typeface="新細明體"/>
                <a:ea typeface="宋体"/>
              </a:rPr>
              <a:t>社區</a:t>
            </a:r>
            <a:br>
              <a:rPr sz="4400"/>
            </a:br>
            <a:r>
              <a:rPr b="0" lang="zh-TW" sz="4400" spc="-1" strike="noStrike">
                <a:solidFill>
                  <a:srgbClr val="6600cc"/>
                </a:solidFill>
                <a:latin typeface="新細明體"/>
                <a:ea typeface="宋体"/>
              </a:rPr>
              <a:t>（應用於國內與國際多元社會）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1) </a:t>
            </a:r>
            <a:r>
              <a:rPr b="1" lang="en-US" sz="3200" spc="-1" strike="noStrike">
                <a:solidFill>
                  <a:srgbClr val="393939"/>
                </a:solidFill>
                <a:latin typeface="Arial"/>
                <a:ea typeface="Arial"/>
              </a:rPr>
              <a:t>School and community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以致用：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生可以在校內校外運用中文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2) </a:t>
            </a:r>
            <a:r>
              <a:rPr b="1" lang="en-US" sz="3200" spc="-1" strike="noStrike">
                <a:solidFill>
                  <a:srgbClr val="393939"/>
                </a:solidFill>
                <a:latin typeface="Arial"/>
                <a:ea typeface="Arial"/>
              </a:rPr>
              <a:t>Lifelong learning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無止境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生將中華語言文化融於日常生活，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充實生活並增加樂趣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MingLiU"/>
                <a:ea typeface="MingLiU"/>
              </a:rPr>
              <a:t>五大</a:t>
            </a:r>
            <a:r>
              <a:rPr b="1" lang="en-US" sz="4000" spc="-1" strike="noStrike">
                <a:solidFill>
                  <a:srgbClr val="ff3300"/>
                </a:solidFill>
                <a:latin typeface="MingLiU"/>
                <a:ea typeface="MingLiU"/>
              </a:rPr>
              <a:t>C </a:t>
            </a:r>
            <a:r>
              <a:rPr b="1" lang="zh-TW" sz="4000" spc="-1" strike="noStrike">
                <a:solidFill>
                  <a:srgbClr val="ff3300"/>
                </a:solidFill>
                <a:latin typeface="MingLiU"/>
                <a:ea typeface="MingLiU"/>
              </a:rPr>
              <a:t>學習目標</a:t>
            </a:r>
            <a:r>
              <a:rPr b="0" lang="zh-TW" sz="40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新細明體"/>
              </a:rPr>
              <a:t>5Cs Goals</a:t>
            </a:r>
            <a:br>
              <a:rPr sz="4000"/>
            </a:br>
            <a:r>
              <a:rPr b="0" lang="en-US" sz="1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     </a:t>
            </a:r>
            <a:br>
              <a:rPr sz="1400"/>
            </a:br>
            <a:r>
              <a:rPr b="0" lang="zh-TW" sz="28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　</a:t>
            </a:r>
            <a:r>
              <a:rPr b="1" lang="zh-TW" sz="2800" spc="-1" strike="noStrike">
                <a:solidFill>
                  <a:srgbClr val="ff3300"/>
                </a:solidFill>
                <a:latin typeface="MingLiU"/>
                <a:ea typeface="MingLiU"/>
              </a:rPr>
              <a:t>全美外語教師學會制定 </a:t>
            </a:r>
            <a:r>
              <a:rPr b="0" lang="zh-TW" sz="28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Standards by ACTF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814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有效溝通</a:t>
            </a:r>
            <a:br>
              <a:rPr sz="20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聽說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中打具體無礙表達及溝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tures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文化認知</a:t>
            </a:r>
            <a:br>
              <a:rPr sz="20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瞭解中國歷史文化及節慶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俗</a:t>
            </a:r>
            <a:br>
              <a:rPr sz="18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nection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橫向貫連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英電腦通，串連做整體化學習</a:t>
            </a:r>
            <a:br>
              <a:rPr sz="16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差異比較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發揮語言優勢融入主流、互補互通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tie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廣泛運用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走入生活、學以致用、用以固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1028" descr="5C"/>
          <p:cNvPicPr/>
          <p:nvPr/>
        </p:nvPicPr>
        <p:blipFill>
          <a:blip r:embed="rId1"/>
          <a:stretch/>
        </p:blipFill>
        <p:spPr>
          <a:xfrm>
            <a:off x="5338800" y="1992240"/>
            <a:ext cx="34909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1a6b"/>
                </a:solidFill>
                <a:latin typeface="南極系統繁體"/>
                <a:ea typeface="南極系統繁體"/>
              </a:rPr>
              <a:t>   </a:t>
            </a:r>
            <a:r>
              <a:rPr b="1" lang="ja-JP" sz="4000" spc="-1" strike="noStrike">
                <a:solidFill>
                  <a:srgbClr val="fc1a6b"/>
                </a:solidFill>
                <a:latin typeface="南極系統繁體"/>
                <a:ea typeface="南極系統繁體"/>
              </a:rPr>
              <a:t>美國教育部制定的成功教育五要素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3" descr="Schoolhouse-5Elements"/>
          <p:cNvPicPr/>
          <p:nvPr/>
        </p:nvPicPr>
        <p:blipFill>
          <a:blip r:embed="rId2"/>
          <a:stretch/>
        </p:blipFill>
        <p:spPr>
          <a:xfrm>
            <a:off x="1600200" y="1676520"/>
            <a:ext cx="6618240" cy="4618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1600200" y="2971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現代化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教育技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629400" y="1447920"/>
            <a:ext cx="23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關心學生，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華橫溢的教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69960" y="4343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求知欲強的學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523880" y="5105520"/>
            <a:ext cx="26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南極系統繁體"/>
                <a:ea typeface="南極系統繁體"/>
              </a:rPr>
              <a:t>良好的家庭環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747840" y="601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南極系統繁體"/>
                <a:ea typeface="南極系統繁體"/>
              </a:rPr>
              <a:t>強力的社區支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4:04:33Z</dcterms:created>
  <dc:creator>Lisa</dc:creator>
  <dc:description/>
  <dc:language>en-US</dc:language>
  <cp:lastModifiedBy>Lan Cheng</cp:lastModifiedBy>
  <dcterms:modified xsi:type="dcterms:W3CDTF">2010-07-15T16:35:52Z</dcterms:modified>
  <cp:revision>86</cp:revision>
  <dc:subject/>
  <dc:title>5C教學理念 與趣味華文教學</dc:title>
</cp:coreProperties>
</file>